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move the slide</a:t>
            </a:r>
            <a:endParaRPr b="0" lang="en-US" sz="42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DDC4-8B88-447E-BFBA-44E11107037B}"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9790-6EE3-444D-BD26-318E5486598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Duverger (1954) διέκρινε δύο επιδράσεις των εκλογικών συστημάτων. Η μηχανική (mechanical) επίδραση προκύπτει ευθέως από τους κανόνες που μετατρέπουν τις ψήφους σε έδρες. Ένα παράδειγμα είναι τα όρια εκπροσώπησης που θέτουν πολλά αναλογικά συστήματα. Η ψυχολογική (psychological) επίδραση έχει να κάνει με την επιρροή που ασκούν οι εκλογικοί κανόνες στις προτιμήσεις των ψηφοφόρων. Σχετικό παράδειγμα είναι η ψήφος τακτικής στα πλειοψηφικά συστήματα, όταν το κόμμα της πρώτης επιλογής του ψηφοφόρου δεν έχει καμία ελπίδα να επικρατήσει στην περιφέρειά του.</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841B-46F3-4950-A3B6-0834B06F15D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οεδρικό αξίωμα είναι αιρετό σε όλες τις χώρες με προεδρικό ή ημι-προεδρικό σύστημα διακυβέρνησης. Σε ορισμένες χώρες, ο πρόεδρος εκλέγεται ακόμα και όταν το αξίωμά του είναι κυρίως εθιμοτυπικό.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ους συνολικά 91 άμεσα εκλεγόμενους προέδρους, οι 61 επιλέγονται με κάποιο σύστημα απόλυτης πλειοψηφίας. Ο αριθμός αυτός αυξάνεται, καθώς οι χώρες καταργούν όχι μόνο τις έμμεσες εκλογές αλλά και το σύστημα της σχετικής πλειοψηφίας, αντανακλώντας τις τάσεις που καταγράφονται και στην ανάδειξη των μελών των κοινοβουλίων. Το γεγονός της κυριαρχίας της μεθόδου της απόλυτης πλειοψηφίας στις προεδρικές εκλογές έχει να κάνει με την πεποίθηση ότι είναι πιο σημαντικό, σε σχέση με το οποιοδήποτε μέλος του κοινοβουλίου, ο ένας και μοναδικός πρόεδρος να έχει τη δεδηλωμένη υποστήριξη της πλειοψηφία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έμμεση εκλογή (indirect election) νοείται η ανάδειξη των αιρετών αξιωματούχων από σώμα εκλεκτόρων, τα μέλη του οποίου εξελέγησαν από ευρύτερο εκλογικό σώμα. Ο μηχανισμός αυτός χρησιμοποιείται σήμερα για την ανάδειξη των προέδρων αλλά και των μελών της Άνω Βουλής σε ορισμένες χώρες.</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69FF-5C06-4B82-A039-3D870507A38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ροϋποθέσεις κατανομής (distribution requirements) ορίζουν το πώς θα πρέπει να κατανέμονται οι ψήφοι του υποψηφίου που επικράτησε σε διάφορες μονάδες του εκλογικού σώματος. Η συνηθέστερη (αν και παρ' όλα αυτά σπάνια) προϋπόθεση είναι να υπάρχει ένα ελάχιστο επίπεδο υποστήριξης σε συγκεκριμένο αριθμό επαρχιών. Οι προϋποθέσεις αυτές μπορεί να οδηγήσουν σε άκαρπες εκλογές (failed elections), όπου κανείς υποψήφιος δεν κατάφερε να ξεπεράσει όλα τα εμπόδια των εκλογικών κανό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5C8F-0031-46ED-AB01-02AAF3E3A81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ξοφλημένοι (lame ducks) πολιτικοί είναι όρος που αναφέρεται σε αιρετούς αξιωματούχους που οδεύουν προς το τέλος της θητείας τους. Συχνά, ο όρος αναφέρεται συγκεκριμένα σε αξιωματούχους των οποίων οι διάδοχοι έχουν εκλεγεί, αλλά δεν έχουν αναλάβει ακόμη επισήμως καθήκοντα. Οι αξιωματούχοι αυτοί συνήθως χάνουν πολύ μεγάλο μέρος της εξουσίας τους. Από την άλλη, σε αντίθεση με τους κατόχους των αξιωμάτων που έχουν μπροστά τους την πρόκληση της επανεκλογής, οι ενέργειές τους είναι δυνατόν να μην επηρεάζονται από εκλογικές σκοπιμότητ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4D96-6F19-45E7-BD4B-7A142C9D31A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ένα δημοψήφισμα το εκλογικό σώμα ψηφίζει για κάποιο θέμα δημόσιας πολιτικής, όπως η τροποποίηση του συντάγματος. Η ψήφος μπορεί να έχει δεσμευτικό ή συμβουλευτικό χαρακτήρ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ωτοβουλία πολιτών είναι η διαδικασία που επιτρέπει σε δεδομένο αριθμό πολιτών (στις πολιτείες των ΗΠΑ αρκεί κατά κανόνα ένα 10%) να λάβουν την πρωτοβουλία για τη διεξαγωγή δημοψηφίσματος επί ενός συγκεκριμένου ζητήματος ή για την ένταξή του στη νομοθετική ατζέντα του κοινοβουλίου (Πρωτοβουλία διαμόρφωσης της ατζέντα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Ψήφος ανάκλησης είναι η λαϊκή ψήφος με την οποία κρίνεται κατά πόσο θα πρέπει ή όχι να απομακρυνθεί ένας αξιωματούχος από τη θέση του μεσούσης της θητείας του.</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9D16-6DB3-4DB8-AE9D-7BC465E3415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ά την άνοδο του μορφωτικού επιπέδου, η προσέλευση στις εκλογές ακολουθεί φθίνουσα πορεία στις περισσότερες χώρες του δημοκρατικού κόσμου.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ού οφείλεται, όμως, η φθίνουσα εκλογική συμμετοχή; Ασφαλώς εντάσσεται σε μια ευρύτερη τάση που έχει κάνει την εμφάνισή της στον δημοκρατικό κόσμο: το διευρυνόμενο χάσμα ανάμεσα στους ψηφοφόρους, τα κόμματα και τις κυβερνήσεις. Δεν είναι ασφαλώς συμπτωματικό ότι η υποχώρηση της εκλογικής προσέλευσης συμπίπτει με την επιτάχυνση της αποευθυγράμμισης των ψηφοφόρων από τις παραδοσιακές κομματικές προτιμήσεις του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μια ανάλυση που άσκησε μεγάλη επιρροή, ο Franklin (2004) συνδέει τη φθίνουσα πορεία της προσέλευσης με τη φθίνουσα σημασία των ίδιων των εκλογών. Με τις ταξικές συγκρούσεις αφοπλισμένες, οι ψηφοφόροι έχουν πλέον λιγότερους λόγους να προσέλθουν στην κάλπη την ημέρα των εκλογών.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όλο και μικρότερη ικανοποίηση των ψηφοφόρων από την απόδοση των δημοκρατικών κυβερνήσεων έχει παίξει επίσης σημαντικό ρόλο.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F141-D22B-420A-B968-FA9CCECE911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ομματική ταύτιση (party identification) είναι ο μακροχρόνιος δεσμός του εκλογέα με ένα συγκεκριμένο κόμμα. Ο δεσμός αυτός προσδιορίζει τον τρόπο με τον οποίο οι ψηφοφόροι ερμηνεύουν τα τεκταινόμενα στον απόμακρο κόσμο της πολιτικής. Μετράται με μια τυποποιημένη ερώτηση στις δημοσκοπήσεις, που ζητά από τους ανθρώπους να δηλώσουν κατά πόσο θεωρούν τον εαυτό τους, λόγου χάρη, δημοκρατικό, ρεπουμπλικάνο, ανεξάρτητο ή κάτι άλλ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66E8-AA47-4A58-89A4-9ACA6D3AB16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ψήφο απολογισμού (retrospective voting), ο ψηφοφόρος ψηφίζει με βάση τις επιδόσεις της κυβέρνησης. Τον όρο διατύπωσε ο Fiorina (1981). Η έννοια αυτή μάς βοηθά σημαντικά στο να εξηγήσουμε την εκλογική συμπεριφορά σε μια εποχή αποευθυγράμμι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3639-0246-4EA9-B583-10731D954E8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ρισμένα απολυταρχικά καθεστώτα, στα οποία περιλαμβάνονται αρκετά της Μέσης Ανατολής, καταργούν ολοκληρωτικά το μηχανισμό των εκλογών. Είτε δεν διαθέτουν καν κοινοβούλια, είτε τα μέλη των κοινοβουλίων διορίζονται από το βασιλιά.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οι περισσότεροι μη δημοκρατικοί ηγέτες αναγνωρίζουν ότι οι εκλογές είναι χρήσιμες, έστω ως πρόσχημα. Οι εκλογές ικανοποιούν τους διεθνείς δωρητές, που συχνά μένουν ικανοποιημένοι ακόμα κι όταν η δημοκρατία είναι απλή φενάκη.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A349-12DE-4BB9-A2D8-E4E4ADC5D35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μια ανελεύθερη δημοκρατία, οι εκλογές παίζουν πιο σημαντικό ρόλο στην επικύρωση της νομιμοποίησης του ηγέτη. Η ωμή εκλογική νοθεία αποφεύγεται, ορισμένοι υποψήφιοι που δεν ανήκουν στο κυβερνών κόμμα καταφέρνουν να εκλεγούν και το ενδεχόμενο της ήττας δεν μπορεί εκ προοιμίου να αποκλειστεί εντελώ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 όλα αυτά, οι εκλογές δεν διεξάγονται στο ελεύθερο και ισότιμο πλαίσιο που εξασφαλίζει μια φιλελεύθερη δημοκρατία. Ειδικότερα, ο ηγέτης κυριαρχεί στην κάλυψη των ΜΜΕ, χρησιμοποιώντας την τηλεόραση για να προβάλλει θριαμβευτικά τα υπαρκτά, πολλές φορές, επιτεύγματά το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ηγέτες έχουν στη διάθεσή τους απαράμιλλα μέσα, όπως η προβολή από τα ΜΜΕ, η δυνατότητα να αξιοποιούν κρατικό χρήμα για τις προεκλογικές τους ανάγκες, αλλά και να εξαργυρώνουν τα πολιτικά γραμμάτια που συσσώρευαν κατά τη διάρκεια της θητείας τους.</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χώρες χαμηλότερου εισοδήματος, τα δίκτυα πελατειακών σχέσεων που βασίζονται στον έλεγχο της κυβέρνησης από τον ηγέτη παρέχουν ένα μέσο συλλογής ψήφων, που δεν είναι διαθέσιμο στην αντιπολίτευση.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1A95-FB99-4E34-BA50-DF8E3BFA016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σταθερές όλες τις άλλες παραμέτρους, μπορούμε να πούμε ότι όσο μεγαλύτερος είναι ο αριθμός των αξιωμάτων που είναι ανοιχτά σε ανταγωνιστικές εκλογές, τόσο πιο δημοκρατικό είναι το πολιτικό σύστημα.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ή η εκλογομανία δεν στερείται, όμως, κινδύνων. Ένας από αυτούς είναι η κόπωση των ψηφοφόρων, που μπορεί να οδηγήσει σε υποχώρηση του ενδιαφέροντος, της εκλογικής προσέλευσης και της ποιότητας των επιλογών που κάνουν οι εκλογείς.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CEE0-3AC8-4EE7-8AE7-F912D5D37BB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κλογές δεύτερης κατηγορίας (second-order elections) επηρεάζονται σημαντικά από τα αποτελέσματα εκλογών πρώτης κατηγορίας, που συχνά διεξάγονται ταυτόχρονα. Οι εκλογές δεύτερης κατηγορίας εκλαμβάνονται ως ήσσονος σημασίας από τους ψηφοφόρους, διότι συνήθως δεν καθορίζουν τη σύνθεση του εθνικού νομοθετικού σώματος ή της κυβέρνησης. Για παράδειγμα, οι ψήφοι που αποσπά ένα κόμμα σε τοπικές εκλογές, παρότι μπορεί να αντανακλούν τη δημοτικότητά του σε εθνικό επίπεδο, γίνονται αντιληπτές ως ήσσονος σημασίας πολιτικό γεγονός, με αποτέλεσμα να εκφυλίζεται η σύνδεση ανάμεσα στην τοπική αυτοδιοίκηση και τις τοπικές εκλογ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8EB3-B0D4-4182-A51B-67DA78DAE8A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ικαίωμα ψήφου είναι μια άλλη σημαντική και αρκετά υποτιμημένη πτυχή των σύγχρονων εκλογών. Μετά τη μείωση του εκλογικού ορίου ηλικίας τις δεκαετίες του '60 και του '70, στις περισσότερες δημοκρατίες όλοι σχεδόν οι πολίτες άνω των 18 ετών έχουν δικαίωμα ψήφου. Η καθολικότητα της ψήφου είναι σχετικά πρόσφατη εξέλιξη, ιδίως όσον αφορά τις γυναίκε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πορεί να υποστηρίξει, όμως, κανείς ότι ακόμη και στις φιλελεύθερες δημοκρατίες υπάρχουν περιθώρια επέκτασης του δικαιώματος ψήφου. Για παράδειγμα, σε ορισμένες χώρες πολλοί ποινικοί κρατούμενοι στερούνται το δικαίωμα ψήφου.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8387-1308-41CE-A4DB-8FFC06F9696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ευρεία έννοια, το εκλογικό σύστημα (electoral system) αναφέρεται στο σύνολο των κανόνων που διέπουν μια εκλογική αναμέτρηση. Συνήθως, όμως, ο όρος αναφέρεται πιο συγκεκριμένα σε τρία χαρακτηριστικά: στη δομή του ψηφοδελτίου (structure of the ballot) (π.χ. στον αριθμό των υποψηφίων στη λίστα κάθε κόμματος), στο μηχανισμό κατανομής εδρών (electoral formula) (τον τρόπο με τον οποίο οι ψήφοι μεταφράζονται σε έδρες) και τη διαίρεση των εκλογικών περιφερειών (districting) (τον κερματισμό της επικράτειας σε εκλογικές περιφέρε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0383-0523-4923-A4EB-16BE7A2DE37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ύστημα της σχετικής πλειοψηφίας (που ονομάζεται επίσης και first past the post), νικητής σε κάθε εκλογική περιφέρεια αναδεικνύεται ο υποψήφιος που έλαβε τις περισσότερες ψήφους. Συνεπώς, οι εκπρόσωποι κάθε κόμματος στο κοινοβούλιο είναι οι υποψήφιοι που επικράτησαν σε αυτές τις κατά περιφέρεια εκλογικές αναμετρήσεις.</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ύστημα της απόλυτης πλειοψηφίας ο νικητής των εκλογών οφείλει να εξασφαλίσει την απόλυτη πλειοψηφία των ψήφων. Για να γίνει αυτό, συνήθως χρειάζεται ένας δεύτερος γύρος. Εάν κανένας υποψήφιος δεν συγκεντρώσει την απόλυτη πλειοψηφία στον πρώτο γύρο, διεξάγεται δεύτερη εκλογική αναμέτρηση, στην οποία συμμετέχουν κατά κανόνα οι δύο υποψήφιοι που πρώτευσαν.</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βασική αρχή της αναλογικής αντιπροσώπευσης είναι ότι θα πρέπει να εξασφαλίζεται η εκπροσώπηση ευρείας γκάμας κομμάτων, και όχι η εκλογή αντιπροσώπων σε κάθε περιφέρεια. Σε ένα αμιγώς αναλογικό σύστημα, κάθε κόμμα λαμβάνει το ίδιο ποσοστό ψήφων και εδρών. Το 40% των ψήφων μεταφράζεται σε 40% των εδρών.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ήθως, τα πλειοψηφικά και τα αναλογικά συστήματα θεωρούνται ασύμβατα, υπάρχει ωστόσο και μια υβριδική μορφή που συνδυάζει και τα δύο. Αυτή η μικτή μέθοδος συνδυάζει τη γεωγραφική αντιπροσωπευτικότητα με την κομματική αντιπροσώπευση. Το πιο γνωστό παράδειγμα, που ονομάζεται συχνά αναλογικό μικτών εκλογικών περιφερειών (MMP), διαθέτει μηχανισμό εξασφάλισης της συνολικής αναλογικότητας και είναι ουσιαστικά μια μορφή αναλογικού συστήματος.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BBD9-E747-4F95-8F76-821E8186D7F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ύστημα gerrymander (ή Gerrymandering) είναι η πρακτική της αυθαίρετης και κατά βούληση αναχάραξης των εκλογικών περιφερειών προκειμένου να μεγιστοποιηθεί η αποτελεσματικότητα της ψήφου υπέρ ενός κόμματος. Ο όρος προέρχεται από μια εκλογική περιφέρεια την οποία χάραξε ο κυβερνήτης της Μασαχουσέτης Gerry το 1812. Ήταν τόσο μακριά, στενή και κυματοειδής ώστε θύμισε σε κάποιον το σχήμα της σαλαμάνδρας (salamander), εξ ου και ο όρος gerrymander (= η σαλαμάνδρα του Ge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D211-93B1-4416-B45B-D7316EE16E2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ψήφος τακτικής (tactical voting) είναι η επιλογή ενός κόμματος ή υποψηφίου από έναν ψηφοφόρο ο οποίος έχει άλλη προτίμηση. Στα πλειοψηφικά εκλογικά συστήματα, οι ψηφοφόροι ενίοτε εγκαταλείπουν το κόμμα που προτιμούν, όταν κρίνουν ότι αυτό δεν έχει καμία πιθανότητα επικράτησης στην εκλογική περιφέρεια όπου ψηφίζου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14C0-EB1B-4921-B677-741A313041E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έγεθος της περιφέρειας (district magnitude) καθορίζεται από τον αριθμό των αντιπροσώπων που εκλέγονται στην κάθε εκλογική περιφέρεια (και όχι από τον αριθμό των ψηφοφόρων). Όσο περισσότερους αντιπροσώπους εκλέγει μια περιοχή, τόσο πιο αναλογικό είναι το σύστημα και τόσο μικρότερη είναι η μεροληψία σε βάρος των μικρότερων κομ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5EEC8-3E45-455A-8277-4E45D81AF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D9B1C-F353-4D6D-B698-9CA538707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C6B40-E1C0-44D3-9FEA-A049BEACB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18E66-3D63-42E2-9AC0-58E277065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55E717-E308-491E-B1A0-CF3557787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23D96-97EE-4724-975F-C7A3D77ED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60A11-4509-412B-AFCA-340886A5F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5DE70-313F-4D0E-829F-78CBFAD8F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0A4A7-92DE-4698-B4F9-79D4E9D28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5959A-72DA-4BE5-BF37-5B1418995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0B918-2CFC-4B56-92BF-C3CB47219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685BA-B48B-41F0-B733-242F1D8E1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C04B9-8D1A-498D-A413-E9C5ACE61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B0FE6-E09C-47AE-BC5C-098417097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F0452-91D6-468C-B372-EBE419ADB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ACC10-0016-4585-A9D2-1BC04F670F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58F2D-D306-404D-8C3E-AD6F069B6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0E2DA-2DFB-4219-BF5F-AA3890162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B0C07-5940-4B29-96FA-AF46CAC25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4F86A-6B5B-4F4B-82C9-D5EE0B582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7AB9E-F344-49E3-BA7B-5FA8E26F2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64DFF-1FE4-49FD-A6FD-5FB4151EF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0871A-EE2A-40FC-BDBA-82172B4F4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D9755-09EC-4BD5-953E-1EA4C8759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55D3-9D72-4CF8-BD04-918A730E9E1D}"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B2EA3-B5AE-43EB-850C-F5A7F7A79BA4}"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660033"/>
                </a:solidFill>
                <a:latin typeface="Times New Roman"/>
              </a:rPr>
              <a:t>Κεφάλαιο 10</a:t>
            </a:r>
            <a:endParaRPr b="0" lang="en-US" sz="48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κλογές και ψηφοφόρο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κλογικά συστήματα και κομματικά συστήματα</a:t>
            </a:r>
            <a:endParaRPr b="0" lang="en-US" sz="3800" spc="-1" strike="noStrike">
              <a:solidFill>
                <a:srgbClr val="66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ιδράσεις εκλογικών συστημάτων κατά </a:t>
            </a:r>
            <a:r>
              <a:rPr b="0" lang="en-US" sz="2800" spc="-1" strike="noStrike">
                <a:solidFill>
                  <a:srgbClr val="000000"/>
                </a:solidFill>
                <a:latin typeface="Arial"/>
              </a:rPr>
              <a:t>Duverger (1954):</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ηχανική</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Ψυχολογικ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νάδειξη προέδρων</a:t>
            </a:r>
            <a:endParaRPr b="0" lang="en-US" sz="4200" spc="-1" strike="noStrike">
              <a:solidFill>
                <a:srgbClr val="66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Άμεση εκλογή (από το λαό)</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μμεση εκλογή (από σώμα εκλεκτόρ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νάδειξη προέδρων</a:t>
            </a:r>
            <a:endParaRPr b="0" lang="en-US" sz="4200" spc="-1" strike="noStrike">
              <a:solidFill>
                <a:srgbClr val="66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προϋποθέσεις κατανομής (distribution requirements) ορίζουν το πώς θα πρέπει να κατανέμονται οι ψήφοι του υποψηφίου που επικράτησε σε διάφορες μονάδες του εκλογικού σώματος. Οι προϋποθέσεις αυτές μπορεί να οδηγήσουν σε άκαρπες εκλογές (failed elections), όπου κανείς υποψήφιος δεν κατάφερε να ξεπεράσει όλα τα εμπόδια των εκλογικών κανόν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νάδειξη προέδρων</a:t>
            </a:r>
            <a:endParaRPr b="0" lang="en-US" sz="4200" spc="-1" strike="noStrike">
              <a:solidFill>
                <a:srgbClr val="66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ξοφλημένοι (lame ducks) πολιτικοί είναι όρος που αναφέρεται σε αιρετούς αξιωματούχους που οδεύουν προς το τέλος της θητείας του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500" spc="-1" strike="noStrike">
                <a:solidFill>
                  <a:srgbClr val="660033"/>
                </a:solidFill>
                <a:latin typeface="Times New Roman"/>
              </a:rPr>
              <a:t>Το δημοψήφισμα, η πρωτοβουλία των πολιτών και η ψήφος ανάκλησης</a:t>
            </a:r>
            <a:endParaRPr b="0" lang="en-US" sz="3500" spc="-1" strike="noStrike">
              <a:solidFill>
                <a:srgbClr val="66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ημοψήφισμ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ωτοβουλία πολιτών</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Ψήφος ανάκλησ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ποχή</a:t>
            </a:r>
            <a:endParaRPr b="0" lang="en-US" sz="4200" spc="-1" strike="noStrike">
              <a:solidFill>
                <a:srgbClr val="66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ασικά αίτια</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ευρυνόμενο χάσμα ανάμεσα στους ψηφοφόρους, τα κόμματα και τις κυβερνήσει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ευθυγράμμιση ψηφοφόρων από τις παραδοσιακές κομματικές προτιμήσεις του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Φθίνουσα σημασία εκλογών</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Όλο και μικρότερη ικανοποίηση ψηφοφόρων από την απόδοση των κυβερνησεων</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κλογική συμπεριφορά</a:t>
            </a:r>
            <a:endParaRPr b="0" lang="en-US" sz="4200" spc="-1" strike="noStrike">
              <a:solidFill>
                <a:srgbClr val="66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ομματική ταύτιση (party identification) είναι ο μακροχρόνιος δεσμός του εκλογέα με ένα συγκεκριμένο κόμμα. Ο δεσμός αυτός προσδιορίζει τον τρόπο με τον οποίο οι ψηφοφόροι ερμηνεύουν τα τεκταινόμενα στον απόμακρο κόσμο της πολιτική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κλογική συμπεριφορά</a:t>
            </a:r>
            <a:endParaRPr b="0" lang="en-US" sz="4200" spc="-1" strike="noStrike">
              <a:solidFill>
                <a:srgbClr val="66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ην ψήφο απολογισμού (retrospective voting), ο ψηφοφόρος ψηφίζει με βάση τις επιδόσεις της κυβέρνησης.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Fiorina,198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ι εκλογές στα απολυταρχικά κράτη</a:t>
            </a:r>
            <a:endParaRPr b="0" lang="en-US" sz="3800" spc="-1" strike="noStrike">
              <a:solidFill>
                <a:srgbClr val="66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λοκληρωτική κατάργηση του μηχανισμού των εκλογών</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χηματικές εκλογές</a:t>
            </a:r>
            <a:endParaRPr b="0" lang="en-US" sz="28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Οι εκλογές στις ανελεύθερες δημοκρατίες</a:t>
            </a:r>
            <a:endParaRPr b="0" lang="en-US" sz="3800" spc="-1" strike="noStrike">
              <a:solidFill>
                <a:srgbClr val="66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υριαρχία του ηγέτη στην κάλυψη των ΜΜΕ</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ξιοποίηση κρατικού χρήματος για προεκλογικές ανάγκες</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ίκτυα πελατειακών σχέσε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ύρος και δικαίωμα ψήφου</a:t>
            </a:r>
            <a:endParaRPr b="0" lang="en-US" sz="4200" spc="-1" strike="noStrike">
              <a:solidFill>
                <a:srgbClr val="66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σο μεγαλύτερος είναι ο αριθμός των αξιωμάτων που είναι ανοιχτά σε ανταγωνιστικές εκλογές, τόσο πιο δημοκρατικό είναι το πολιτικό σύστημα.</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ό την άλλη, αυτή η εκλογομανία δεν στερείται κινδύνων. Ένας από αυτούς είναι η κόπωση των ψηφοφόρω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4 - TextBox"/>
          <p:cNvSpPr/>
          <p:nvPr/>
        </p:nvSpPr>
        <p:spPr>
          <a:xfrm>
            <a:off x="1295280" y="2328840"/>
            <a:ext cx="7010640" cy="1922760"/>
          </a:xfrm>
          <a:prstGeom prst="rect">
            <a:avLst/>
          </a:prstGeom>
          <a:noFill/>
          <a:ln w="9360">
            <a:solidFill>
              <a:srgbClr val="d3d31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Απαγορεύεται η αναδημοσίευση ή αναπαραγωγή του παρόντος έργου με οποιονδήποτε τρόπο χωρίς γραπτή άδεια του εκδότη, σύμφωνα με το Ν. 2121/1993 και τη Διεθνή Σύμβαση της Βέρνη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Calibri"/>
              </a:rPr>
              <a:t>(που έχει κυρωθεί με τον Ν. 100/1975)</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ύρος και δικαίωμα ψήφου </a:t>
            </a:r>
            <a:endParaRPr b="0" lang="en-US" sz="4200" spc="-1" strike="noStrike">
              <a:solidFill>
                <a:srgbClr val="66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εκλογές δεύτερης κατηγορίας (second-order elections) επηρεάζονται σημαντικά από τα αποτελέσματα εκλογών πρώτης κατηγορίας, που συχνά διεξάγονται ταυτόχρονα. Οι εκλογές δεύτερης κατηγορίας εκλαμβάνονται ως ήσσονος σημασίας από τους ψηφοφόρους, διότι συνήθως δεν καθορίζουν τη σύνθεση του εθνικού νομοθετικού σώματος ή της κυβέρνηση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Εύρος και δικαίωμα ψήφου</a:t>
            </a:r>
            <a:endParaRPr b="0" lang="en-US" sz="4200" spc="-1" strike="noStrike">
              <a:solidFill>
                <a:srgbClr val="66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ις περισσότερες δημοκρατίες όλοι σχεδόν οι πολίτες άνω των 18 ετών έχουν δικαίωμα ψήφου.</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Ωστόσο, υπάρχουν ακόμη περιθώρια επέκτασης του δικαιώματος ψήφο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κλέγοντας τα νομοθετικά σώματα</a:t>
            </a:r>
            <a:endParaRPr b="0" lang="en-US" sz="3800" spc="-1" strike="noStrike">
              <a:solidFill>
                <a:srgbClr val="66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 την ευρεία έννοια, το εκλογικό σύστημα (electoral system) αναφέρεται στο σύνολο των κανόνων που διέπουν μια εκλογική αναμέτρηση. Συνήθως, όμως, ο όρος αναφέρεται πιο συγκεκριμένα σε τρία χαρακτηριστικά: στη δομή του ψηφοδελτίου, στο μηχανισμό κατανομής εδρών και τη διαίρεση των εκλογικών περιφερειώ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Εκλέγοντας τα νομοθετικά σώματα</a:t>
            </a:r>
            <a:endParaRPr b="0" lang="en-US" sz="3800" spc="-1" strike="noStrike">
              <a:solidFill>
                <a:srgbClr val="66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κλογικά συστήματα</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λειοψηφικά σχετικής πλειοψηφία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λειοψηφικά απόλυτης πλειοψηφίας</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ναλογική αντιπροσώπευση</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ικτά συστήματα</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Πλειοψηφικά συστήματα σχετικής πλειοψηφίας</a:t>
            </a:r>
            <a:endParaRPr b="0" lang="en-US" sz="3800" spc="-1" strike="noStrike">
              <a:solidFill>
                <a:srgbClr val="66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στημα gerrymander (ή Gerrymandering) είναι η πρακτική της αυθαίρετης και κατά βούληση αναχάραξης των εκλογικών περιφερειών προκειμένου να μεγιστοποιηθεί η αποτελεσματικότητα της ψήφου υπέρ ενός κόμματο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660033"/>
                </a:solidFill>
                <a:latin typeface="Times New Roman"/>
              </a:rPr>
              <a:t>Πλειοψηφικά συστήματα σχετικής πλειοψηφίας</a:t>
            </a:r>
            <a:endParaRPr b="0" lang="en-US" sz="3800" spc="-1" strike="noStrike">
              <a:solidFill>
                <a:srgbClr val="66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ψήφος τακτικής (tactical voting) είναι η επιλογή ενός κόμματος ή υποψηφίου από έναν ψηφοφόρο ο οποίος έχει άλλη προτίμησ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660033"/>
                </a:solidFill>
                <a:latin typeface="Times New Roman"/>
              </a:rPr>
              <a:t>Αναλογική αντιπροσώπευση</a:t>
            </a:r>
            <a:endParaRPr b="0" lang="en-US" sz="4200" spc="-1" strike="noStrike">
              <a:solidFill>
                <a:srgbClr val="66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μέγεθος της περιφέρειας (district magnitude) καθορίζεται από τον αριθμό των αντιπροσώπων που εκλέγονται στην κάθε εκλογική περιφέρεια (και όχι από τον αριθμό των ψηφοφόρων). Όσο περισσότερους αντιπροσώπους εκλέγει μια περιοχή, τόσο πιο αναλογικό είναι το σύστημα και τόσο μικρότερη είναι η μεροληψία σε βάρος των μικρότερων κομμάτ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9T05:17:51Z</dcterms:created>
  <dc:creator>pc</dc:creator>
  <dc:description/>
  <dc:language>en-US</dc:language>
  <cp:lastModifiedBy>EPIMELEIA</cp:lastModifiedBy>
  <dcterms:modified xsi:type="dcterms:W3CDTF">2013-09-23T09:25:37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